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1F05-81AE-49D5-A702-C3537B2B0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8D62-B287-4D11-B68E-E629EE022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C833-8DA9-4459-B766-B3F87E54B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8258-6EA8-4148-BEE6-039A5CD69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FCCD-D888-46A7-9958-8AA6FEEC06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FF8A-C911-45B4-8226-79F92CA63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6505-7AE0-442F-A17E-FECC2F509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A9CD-DAC2-4056-BC5A-18312AB5E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46DC-6780-4DE2-80B1-5D15E1E4E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4B99-5A06-49F8-8D35-E59AC4A0E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3FCA-138B-48F0-947F-47B63E942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D455-DA42-4958-9494-36DA68EDD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C1CF-F458-446C-A320-691D836AB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C415-B069-403F-8961-8756358A8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46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8973-C5B2-4CB3-8E44-555CFF163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0620-4F1C-4113-8A8E-4070382E7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D2FC-DDD4-48B7-AF76-896C54BDB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F8BC-109E-4F12-81BE-8DBA08292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86DC-849A-4D91-B84F-E4BA061593CF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440" y="6489720"/>
            <a:ext cx="59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2009 South-Western,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8 Projects\C21 Accounting\C21 Acct Covers\C21 Accounting Cover Images_Green\Gilbertson_0538447567_amzn.jpg"/>
          <p:cNvPicPr/>
          <p:nvPr/>
        </p:nvPicPr>
        <p:blipFill>
          <a:blip r:embed="rId2"/>
          <a:stretch/>
        </p:blipFill>
        <p:spPr>
          <a:xfrm>
            <a:off x="0" y="23760"/>
            <a:ext cx="96048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80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440" y="6489720"/>
            <a:ext cx="59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2009 South-Western,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8 Projects\C21 Accounting\C21 Acct Covers\C21 Accounting Cover Images_Green\Gilbertson_0538447567_amzn.jpg"/>
          <p:cNvPicPr/>
          <p:nvPr/>
        </p:nvPicPr>
        <p:blipFill>
          <a:blip r:embed="rId2"/>
          <a:stretch/>
        </p:blipFill>
        <p:spPr>
          <a:xfrm>
            <a:off x="0" y="23760"/>
            <a:ext cx="96048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Accounting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98E3-49C6-41A1-9F80-CC16C2F4E10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CCOUNTING 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C:\Documents and Settings\mcm08@fuse.net\My Documents\2005 Business Projects\Slides for Century 21 Accounting\Blue\ch01\C21_blue_0101.jpg"/>
          <p:cNvPicPr/>
          <p:nvPr/>
        </p:nvPicPr>
        <p:blipFill>
          <a:blip r:embed="rId1"/>
          <a:stretch/>
        </p:blipFill>
        <p:spPr>
          <a:xfrm>
            <a:off x="628560" y="2862360"/>
            <a:ext cx="7886880" cy="1131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3D51-11FE-4B5D-A753-AE5F771F15A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466040" cy="1143000"/>
          </a:xfrm>
          <a:prstGeom prst="rect">
            <a:avLst/>
          </a:prstGeom>
          <a:solidFill>
            <a:srgbClr val="00804b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’s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3:39Z</dcterms:created>
  <dc:creator>M. C. McLaughlin</dc:creator>
  <dc:description/>
  <dc:language>en-US</dc:language>
  <cp:lastModifiedBy>image</cp:lastModifiedBy>
  <dcterms:modified xsi:type="dcterms:W3CDTF">2012-08-30T19:48:20Z</dcterms:modified>
  <cp:revision>16</cp:revision>
  <dc:subject/>
  <dc:title>Lesson 1-1</dc:title>
</cp:coreProperties>
</file>